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641-8077-4241-BD36-43F65055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A5B-D09C-420C-AEB9-31016336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FB0-00CB-402D-A4E6-B930EE2D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BAF-8A74-4DF5-9476-AE8B61AC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B6A-B862-462D-BDAD-0381092E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6A9-4FD1-49FF-AEA9-9D48A2BB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360-5C60-44A4-928F-2A5B6A06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E35-13FF-4D89-9E02-89D3C46D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670-C71A-4799-8C05-D6EC792A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83B-FD3D-4EC7-BE43-7D3E4EB2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A3A-64A6-44D9-9262-8DEBAFCF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153-3287-424C-8159-ED3A1A5D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FA99-EABD-4500-9955-6E6576595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= Distance/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ich is a spee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ms per li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grees per seco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Kilometers per h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nutes per me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is the independent variabl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 of seeds grows the fastes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it take a plant to flower?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 is the average rate of plant growth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lants grow better in sunlight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3059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he mass of ten of the same type of plant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each seed in a pot of soil and place in sunny wind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ach plant the same amount of water each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he mass of each plant at the end of each week for the next two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on of 7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Grade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523880" y="6019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one remained constant in her sp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ent added water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) to glasses and tapped the glasses with a pencil to make musical notes.  She adjusted the water levels in the glasses until the pitches of the notes matched the eight notes of a musical scale.  Which information is most important to include in her report so another student can repeat h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ig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22960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volume of water placed in each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ngth and mass of the pencil used to tap each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e and location of the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ent’s previous experience with making musical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54:56Z</dcterms:created>
  <dc:creator>Sterling Grade School</dc:creator>
  <dc:description/>
  <dc:language>en-US</dc:language>
  <cp:lastModifiedBy>Sterling Grade School</cp:lastModifiedBy>
  <dcterms:modified xsi:type="dcterms:W3CDTF">2010-04-19T16:55:28Z</dcterms:modified>
  <cp:revision>3</cp:revision>
  <dc:subject/>
  <dc:title>Slide 1</dc:title>
</cp:coreProperties>
</file>